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5452-7A64-4EEA-A142-3743CB37357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ve unit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CPCCCM2002A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Carry out excavation is imported from CPC32308 Certificate 3 in Stonemasonry (Monumental / Install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Elective unit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CPCCCM2008A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Erect and dismantle restricted height scaffolding is a core unit in CPC32308 Certificate 3 in Stonemasonry (Monumental / Install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ve unit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CPCCCM2005A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Use construction tools and equipment is imported from CPC31608 Certificate 3 in Pav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Elective unit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CPCCJN2003A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ackage manufactured products for transport is a core unit in CPC20508 Certificate 3 in Stonework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Elective unit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CPCCJN2003A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ackage manufactured products for transport is a core unit in CPC20508 Certificate 3 in Stonework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 electives may be chosen from the Monumental stream, additional to the one stage 1 elective and the two stage 2 el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onument electives (CPCCST3011A and CPCCST3013A) are a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ix electives may be chosen from the Installation stream, additional to the one stage 1 elective and the two stage 2 el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three paving electives (CPCCPA3001A, CPCCPA3002A and CPCCPA3003A) are a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usiness electives may be chosen, additional to the one stage 1 elective, the two stage 2 electives and four other el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B59-71B9-4EF0-A425-C148EAAD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589D-B1F4-4C90-B0AD-3DACDF2E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BE4-FE71-4D24-A57C-6A39D1E1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70C3-7206-480D-9C73-F8A6A80A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332-5C99-48E8-8547-5CFC2FAE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19B-6027-48A7-B4AF-A4E9F824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8E6-3C34-4C3E-B61A-D8D8F7E3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6DA-F2B0-42DE-83B2-9C51A5B4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875D-A9FB-44CC-8837-25D85BE6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EB5A-A0CF-4662-92DE-E992F419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C6C-567E-4661-8CA5-5F9CB19B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C59-95A0-4FC8-AB95-F5A5BFC4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A8EF-A9E2-40EA-A386-ADF2F31D1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206360" y="569880"/>
          <a:ext cx="6732720" cy="5683320"/>
        </p:xfrm>
        <a:graphic>
          <a:graphicData uri="http://schemas.openxmlformats.org/drawingml/2006/table">
            <a:tbl>
              <a:tblPr/>
              <a:tblGrid>
                <a:gridCol w="451080"/>
                <a:gridCol w="1290600"/>
                <a:gridCol w="4991040"/>
              </a:tblGrid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ge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1002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 effectively and sustainably in the construction indus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1003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 and organise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1004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uct workplace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1005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measurements and calcul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200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d and interpret plans and specifi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2002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exca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2005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construction tools and equi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O2003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concreting to simple for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ge 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2006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y basic levelling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2008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ect and dismantle restricted height scaffol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JN2003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ckage manufactured products for trans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OHS200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y OHS requirements, policies and procedures in the construction indus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H200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pare surfac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200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pare for stonemasonry construction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2005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load slinging of off-site mate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06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hine 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C20508 Certificate 2 in Stone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201680" y="566640"/>
          <a:ext cx="6732720" cy="5670720"/>
        </p:xfrm>
        <a:graphic>
          <a:graphicData uri="http://schemas.openxmlformats.org/drawingml/2006/table">
            <a:tbl>
              <a:tblPr/>
              <a:tblGrid>
                <a:gridCol w="451080"/>
                <a:gridCol w="1290600"/>
                <a:gridCol w="4991040"/>
              </a:tblGrid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ge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1002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 effectively and sustainably in the construction indus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1003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 and organise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1004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uct workplace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1005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measurements and calcul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200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d and interpret plans and specifi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2002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exca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2005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construction tools and equi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O2003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concreting to simple for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ge 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2006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y basic levelling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2008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ect and dismantle restricted height scaffol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JN2003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ckage manufactured products for trans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OHS200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y OHS requirements, policies and procedures in the construction indus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H200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pare surfac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200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pare for stonemasonry construction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2005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load slinging of off-site mate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06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hine 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395280" y="6031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al /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C32308 Certificate 3 in Stonemason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265400" y="1557360"/>
          <a:ext cx="6451560" cy="2467080"/>
        </p:xfrm>
        <a:graphic>
          <a:graphicData uri="http://schemas.openxmlformats.org/drawingml/2006/table">
            <a:tbl>
              <a:tblPr/>
              <a:tblGrid>
                <a:gridCol w="642600"/>
                <a:gridCol w="1584360"/>
                <a:gridCol w="4224600"/>
              </a:tblGrid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ge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A3002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setting 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A3023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levelling ope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0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ess and mould 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02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pe solid 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03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lit stone manual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04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ess stone manual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05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profile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C32308 Certificate 3 in Stonemason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5599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al /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C32308 Certificate 3 in Stonemason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5599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al /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54240" y="1557360"/>
          <a:ext cx="6978600" cy="2335320"/>
        </p:xfrm>
        <a:graphic>
          <a:graphicData uri="http://schemas.openxmlformats.org/drawingml/2006/table">
            <a:tbl>
              <a:tblPr/>
              <a:tblGrid>
                <a:gridCol w="558720"/>
                <a:gridCol w="1428840"/>
                <a:gridCol w="49910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ge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umental electi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07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rn 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08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lay lead to 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09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computer-controlled static machinery to produce stone compo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10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t out and cut letters in 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1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 monument co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13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cemetery monument fix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C32308 Certificate 3 in Stonemason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599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al /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254240" y="1557360"/>
          <a:ext cx="6989760" cy="2335320"/>
        </p:xfrm>
        <a:graphic>
          <a:graphicData uri="http://schemas.openxmlformats.org/drawingml/2006/table">
            <a:tbl>
              <a:tblPr/>
              <a:tblGrid>
                <a:gridCol w="558720"/>
                <a:gridCol w="1440000"/>
                <a:gridCol w="49910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ge 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llation electi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PA300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pare subgrade, base and bedding course for segmental pav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PA3002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y segmental pav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PA3003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t segmental pav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12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ild stone veneer w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14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t and anchor stone fac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BL3016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ruct battered masonry walls and pi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C32308 Certificate 3 in Stonemason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5599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al /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54240" y="1568520"/>
          <a:ext cx="6891120" cy="909720"/>
        </p:xfrm>
        <a:graphic>
          <a:graphicData uri="http://schemas.openxmlformats.org/drawingml/2006/table">
            <a:tbl>
              <a:tblPr/>
              <a:tblGrid>
                <a:gridCol w="558720"/>
                <a:gridCol w="1341360"/>
                <a:gridCol w="49910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ge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electi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SBSMB30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stigate micro business opportun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SBSMB406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age small business fina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1:58:05Z</dcterms:created>
  <dc:creator>browns</dc:creator>
  <dc:description/>
  <dc:language>en-US</dc:language>
  <cp:lastModifiedBy>browns</cp:lastModifiedBy>
  <dcterms:modified xsi:type="dcterms:W3CDTF">2009-09-16T12:50:13Z</dcterms:modified>
  <cp:revision>7</cp:revision>
  <dc:subject/>
  <dc:title>CPC20508 Certificate 2 in Stoneworking</dc:title>
</cp:coreProperties>
</file>